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46F-0BA3-4C52-949D-76E28701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65240" y="165240"/>
            <a:ext cx="4734000" cy="3551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159080"/>
            <a:ext cx="5486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mes are defining the „center of gravity“ of a phone‘s positioning, not it‘s exclusive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e.g., an Imaging phone might also support Music / MP 3, even though it‘s not on the „Music“ Theme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DFF8-4751-4F29-9099-5BA3B1AA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8739-88F1-48C6-B780-9C66688DB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3E74-A9CE-49DA-86D7-17FF11820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28DF-F2DD-413B-8BBA-EB033359F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31C1-3BE4-49B4-BF83-8D98F7CC6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8906-3074-4916-A3D5-C9CE9D379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6320-4D5A-49DB-ACE3-1ECD1B58F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D654-5DC1-4C44-AE3A-C3DACA9C3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0213-3A93-4B87-A8CF-5A010A328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328F-9EC8-4B47-8A94-C586F13C8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15CC-5DCE-4DF1-B3C3-E9FA802FF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6AAC-C683-406E-981F-DE51C7D6C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24040" y="638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4443B4-BD48-47ED-A403-EADBE26072D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, V 1.00_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Slide Elements"/>
          <p:cNvGrpSpPr/>
          <p:nvPr/>
        </p:nvGrpSpPr>
        <p:grpSpPr>
          <a:xfrm>
            <a:off x="125280" y="1149480"/>
            <a:ext cx="7684920" cy="5236560"/>
            <a:chOff x="125280" y="1149480"/>
            <a:chExt cx="7684920" cy="5236560"/>
          </a:xfrm>
        </p:grpSpPr>
        <p:sp>
          <p:nvSpPr>
            <p:cNvPr id="6" name="McK Measure" hidden="1"/>
            <p:cNvSpPr/>
            <p:nvPr/>
          </p:nvSpPr>
          <p:spPr>
            <a:xfrm>
              <a:off x="125280" y="1149480"/>
              <a:ext cx="768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McK Footnote" hidden="1"/>
            <p:cNvSpPr/>
            <p:nvPr/>
          </p:nvSpPr>
          <p:spPr>
            <a:xfrm>
              <a:off x="128160" y="6082920"/>
              <a:ext cx="7283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457200" indent="-457200"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*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Footno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224"/>
                </a:spcBef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5000" y="18900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R&amp;D, MEP 7 adaptation to newly </a:t>
            </a:r>
            <a:br>
              <a:rPr sz="2500"/>
            </a:b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introduced product/project classes I-IV</a:t>
            </a:r>
            <a:endParaRPr b="0" lang="en-US" sz="25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6880" y="2325600"/>
            <a:ext cx="54626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mon R&amp;D HR resource collection and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cost structure and calculation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evelopment milestone ma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nified organization pres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reporting con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" y="1052640"/>
            <a:ext cx="8842320" cy="745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000080"/>
            <a:ext cx="0" cy="804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6840" y="993600"/>
            <a:ext cx="0" cy="8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1143000"/>
            <a:ext cx="1512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Lea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U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6920" y="1125360"/>
            <a:ext cx="47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Kick 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1122480"/>
            <a:ext cx="241200" cy="647640"/>
          </a:xfrm>
          <a:prstGeom prst="rect">
            <a:avLst/>
          </a:prstGeom>
          <a:solidFill>
            <a:srgbClr val="cccccc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115740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2040" y="1506240"/>
            <a:ext cx="96480" cy="333360"/>
            <a:chOff x="122040" y="1506240"/>
            <a:chExt cx="96480" cy="333360"/>
          </a:xfrm>
        </p:grpSpPr>
        <p:sp>
          <p:nvSpPr>
            <p:cNvPr id="63" name=""/>
            <p:cNvSpPr/>
            <p:nvPr/>
          </p:nvSpPr>
          <p:spPr>
            <a:xfrm flipH="1" flipV="1">
              <a:off x="13968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12204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968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204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2240" y="1506240"/>
            <a:ext cx="96480" cy="333360"/>
            <a:chOff x="462240" y="1506240"/>
            <a:chExt cx="96480" cy="333360"/>
          </a:xfrm>
        </p:grpSpPr>
        <p:sp>
          <p:nvSpPr>
            <p:cNvPr id="68" name=""/>
            <p:cNvSpPr/>
            <p:nvPr/>
          </p:nvSpPr>
          <p:spPr>
            <a:xfrm flipV="1">
              <a:off x="46224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6548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24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548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2400" y="5084640"/>
            <a:ext cx="3697200" cy="120204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1202040"/>
              <a:gd name="textAreaBottom" fmla="*/ 120204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" y="5084640"/>
            <a:ext cx="2971800" cy="2685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920" y="514836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400" y="1832040"/>
            <a:ext cx="3709800" cy="1380960"/>
          </a:xfrm>
          <a:custGeom>
            <a:avLst/>
            <a:gdLst>
              <a:gd name="textAreaLeft" fmla="*/ 0 w 3709800"/>
              <a:gd name="textAreaRight" fmla="*/ 3710160 w 370980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1833480"/>
            <a:ext cx="296676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00" y="18921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840" y="2131920"/>
            <a:ext cx="3768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agmatic adaptation of MEP 7 R&amp;D parts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leaner MEP for leaner project-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liminate obsolete check-i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bine and/or drop milestones for ‘simple projects’ (if applicable!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dapt standard durations to project 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9440" y="3102120"/>
            <a:ext cx="5073480" cy="116676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3103560"/>
            <a:ext cx="3148200" cy="2667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9440" y="316692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832040"/>
            <a:ext cx="5073480" cy="124308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1832040"/>
            <a:ext cx="3148200" cy="26964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1440" y="189540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 KPIs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7480" y="577980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9440" y="4284720"/>
            <a:ext cx="5073480" cy="198900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94120" y="4284720"/>
            <a:ext cx="3148200" cy="2919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356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6040" y="4632480"/>
            <a:ext cx="1278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16720" y="4632480"/>
            <a:ext cx="1541160" cy="730800"/>
            <a:chOff x="6516720" y="4632480"/>
            <a:chExt cx="1541160" cy="730800"/>
          </a:xfrm>
        </p:grpSpPr>
        <p:sp>
          <p:nvSpPr>
            <p:cNvPr id="91" name=""/>
            <p:cNvSpPr/>
            <p:nvPr/>
          </p:nvSpPr>
          <p:spPr>
            <a:xfrm>
              <a:off x="6516720" y="4835880"/>
              <a:ext cx="85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	</a:t>
              </a: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6720" y="4632480"/>
              <a:ext cx="15411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esponsi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961760" y="4632480"/>
            <a:ext cx="95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1546200"/>
            <a:ext cx="216000" cy="217080"/>
            <a:chOff x="214200" y="1546200"/>
            <a:chExt cx="216000" cy="217080"/>
          </a:xfrm>
        </p:grpSpPr>
        <p:sp>
          <p:nvSpPr>
            <p:cNvPr id="95" name=""/>
            <p:cNvSpPr/>
            <p:nvPr/>
          </p:nvSpPr>
          <p:spPr>
            <a:xfrm>
              <a:off x="214200" y="1546200"/>
              <a:ext cx="216000" cy="217080"/>
            </a:xfrm>
            <a:prstGeom prst="ellipse">
              <a:avLst/>
            </a:prstGeom>
            <a:solidFill>
              <a:srgbClr val="00a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36960" y="1563120"/>
              <a:ext cx="39960" cy="35640"/>
              <a:chOff x="336960" y="1563120"/>
              <a:chExt cx="39960" cy="35640"/>
            </a:xfrm>
          </p:grpSpPr>
          <p:sp>
            <p:nvSpPr>
              <p:cNvPr id="97" name=""/>
              <p:cNvSpPr/>
              <p:nvPr/>
            </p:nvSpPr>
            <p:spPr>
              <a:xfrm>
                <a:off x="336960" y="1563120"/>
                <a:ext cx="25200" cy="2520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28800" bIns="-2880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840" y="1580040"/>
                <a:ext cx="19080" cy="1872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33120" bIns="-3312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257040" y="136368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67480" y="136440"/>
            <a:ext cx="2375640" cy="853560"/>
            <a:chOff x="6567480" y="136440"/>
            <a:chExt cx="2375640" cy="853560"/>
          </a:xfrm>
        </p:grpSpPr>
        <p:sp>
          <p:nvSpPr>
            <p:cNvPr id="101" name=""/>
            <p:cNvSpPr/>
            <p:nvPr/>
          </p:nvSpPr>
          <p:spPr>
            <a:xfrm>
              <a:off x="6567480" y="390600"/>
              <a:ext cx="147240" cy="146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480" y="594000"/>
              <a:ext cx="147240" cy="147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7480" y="809640"/>
              <a:ext cx="147240" cy="14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36440"/>
              <a:ext cx="4744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3600" y="390600"/>
              <a:ext cx="200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on tra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74760" y="594000"/>
              <a:ext cx="186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36600" y="822240"/>
              <a:ext cx="23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highly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1880" y="319320"/>
              <a:ext cx="22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13120" y="4797360"/>
            <a:ext cx="497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Get ‘GO’ from R&amp;D board. Adapt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Inform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with I/F partners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First WS with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5720" y="2131920"/>
            <a:ext cx="4281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New MEP (R&amp;D parts) available E/March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xisting MEP checkpoints aligned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Milestones combined and/or dropped for ‘simple projects’ (not yet decided, must be evaluated in the coarse of the proje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Standard phase-durations for project classes def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4300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Team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J. Bauregger (HW), T. Hagemann (SW), O. Schrage (MD), C. Friedl (ST), A. Betting (TPM), H.P. Hoeckenreiner (Plann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50336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Interface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Th. Masselink (Over all MEP), U. Mielkau (CTM), A. Eising (QM), t.b.d.(SCM), t.b.d (RD V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125360"/>
            <a:ext cx="1224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Sponsor/Steer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S. Bocionek, W. Klebsch, J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408480"/>
            <a:ext cx="497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availability must be ensu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and availability of I/F partn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3284640"/>
            <a:ext cx="3697560" cy="1800000"/>
          </a:xfrm>
          <a:custGeom>
            <a:avLst/>
            <a:gdLst>
              <a:gd name="textAreaLeft" fmla="*/ 0 w 3697560"/>
              <a:gd name="textAreaRight" fmla="*/ 3697920 w 36975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280" y="3303720"/>
            <a:ext cx="297180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160" y="3355920"/>
            <a:ext cx="139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dure and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643200"/>
            <a:ext cx="35290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ased on project class definition results of PD energize project. Re-use results/material developed t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regularly meets in WS (apprx. 4x), no add. status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st WS: Analyze solution in depth and agreement. 2nd+3rd: intermediate results. 4th prepare final 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esent intermediate results to sponsor/steering (1-2x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Kick-Off: 10.Jan., Interm.res. :3.Feb + 3.Mar, Final version 31.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Rough effort estimation: ~40h/month for each team member. ~100h/month for project le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00800">
            <a:off x="5292720" y="260280"/>
            <a:ext cx="720720" cy="287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.b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5524560"/>
            <a:ext cx="367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proposal (= base for R&amp;D board ‘GO’) avai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ppendix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ject Organis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3640" y="836640"/>
          <a:ext cx="552456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2456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reas of work / open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440" y="84420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1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each check point gets a ‘relevant for product class X’ indica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milestones need to be merged for certain class X products (e.g. S15/S2 for class1) If so: Enhance each of the tables in the entire document.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,/decide if milestones can be dropped for certain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2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duration of phases to mapping to project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nhance duration lis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ombine/drop milestones(?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checklist responsible (Due to org change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ach checklist at each milestone should show definition responsibl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ptional: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liminate mix department/projec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clear matrix org statement and pi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4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BenQ mobile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d missing functions in “4. Overview of declarations” (e.g. Ma: no entry, but approx 35 checkpoints).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What does CTM/TPM cover? (Process discussion!!!!!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rouping of functions (e.g. R&amp;D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bind from changing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se generic terms (as partially already in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one-pager as mapping to current org struct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to new department stru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ique wording throughout the doc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generic org struct which shows all MEP-player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5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Metric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verview how many checkpoints for which MS/func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6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 use of platform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ssumption for MEP 7.x platform process goes aliv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efinition of PD project classes</a:t>
            </a:r>
            <a:br>
              <a:rPr sz="16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e project cost and the project duration are depending on the development effort. This is described by the PD classes</a:t>
            </a:r>
            <a:endParaRPr b="1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6318360"/>
            <a:ext cx="25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6364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lected data from PL-P &amp; PL-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7600" y="907920"/>
          <a:ext cx="8240760" cy="5234040"/>
        </p:xfrm>
        <a:graphic>
          <a:graphicData uri="http://schemas.openxmlformats.org/drawingml/2006/table">
            <a:tbl>
              <a:tblPr/>
              <a:tblGrid>
                <a:gridCol w="1352520"/>
                <a:gridCol w="1722240"/>
                <a:gridCol w="1722600"/>
                <a:gridCol w="1720800"/>
                <a:gridCol w="1722600"/>
              </a:tblGrid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D project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10065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ID only, same PCB, same 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housing, new PCB, slight SW modifications, reuse of available HW and S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orm factor (concept) SW and/or HW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 product incl. platform and component cost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Everything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irect co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’8 (Cond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’0 (Philli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’0 (Fin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’7 (Obsidi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5’8 (Ony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’(Kestr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3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Swan, Koala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’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’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’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project duration (M0 till 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i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dor: 2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erequisites for 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other features identical to technical predecess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all features must be defined in terms of “as already available for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. Architecture to be derived from predecessor projects/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 (top level), Architecture must be available from TPS, key HW features/components are  defin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-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9:26:35Z</dcterms:created>
  <dc:creator>Uwe Schmitz</dc:creator>
  <dc:description/>
  <dc:language>en-US</dc:language>
  <cp:lastModifiedBy>SchmitzU</cp:lastModifiedBy>
  <dcterms:modified xsi:type="dcterms:W3CDTF">2006-01-09T15:03:21Z</dcterms:modified>
  <cp:revision>25</cp:revision>
  <dc:subject/>
  <dc:title>R&amp;D MEP 7 adaptation to newly introduced project classes</dc:title>
</cp:coreProperties>
</file>